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83B-7A83-4CEC-B315-46E71091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9DA-40D5-4F2A-84F3-B4D9FB40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B7D-3702-4E8A-9570-BDC0F84D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8C6-3C25-4F0C-A803-8A379325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08A-B89D-4164-A8E6-1924D50E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1CD-1E09-4D77-9F00-AD3A70D7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F97-9BA8-4341-844D-9D290BE3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F1A-DF61-46FD-9507-A7ECA79E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467-18CC-4440-84BF-C8BCB4A0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2AC-75A0-40B3-8210-88D3238D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F27-36D6-48E8-B97F-586B8C60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C9E-739B-4A11-BFB4-AE45367B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9E60-FFE6-434D-8DA9-C96682E0A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7 Hoc zármutok trápi 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spásy štít, môj spásy ští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istota stála, ty spásy si štít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zármutok trápi 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viera bô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a dušu stiesnen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eň doľaho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úbohý, bied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vojím chcem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záchrancu v teb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môj spásy ští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spásy štít, môj spásy ští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istota stála, ty spásy si ští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v závetrí vľúdn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v prívale vô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trápení nájsť nev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porný bo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áplava hrôz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 chce pohlt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záchrancu v teb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môj spásy ští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spásy štít, môj spásy ští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istota stála, ty spásy si ští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úzkostiach nevid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y sme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tmách pochýb stráca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srdca mi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úfalstva smútok s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vládzem skr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záchrancu v teb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môj spásy ští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8T10:26:20Z</dcterms:modified>
  <cp:revision>21</cp:revision>
  <dc:subject/>
  <dc:title>Je veľký náš Pán, on slávy je Kráľ Nech do všetkých strán  spev vrúcnych znie chvál.</dc:title>
</cp:coreProperties>
</file>